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93B-1CAC-4AD3-8616-A25B3593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2D7-4192-4FB0-892C-EF5E84DA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53D-8AC8-4A8D-AAE8-BB2D2ED3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6CD-DF3D-4191-B822-C1B31407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EFC-FC51-4BFD-A9F5-A91B4E4C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46C-2059-4CAD-9422-048E0A0D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6A8-5A3F-432C-845B-D02AA746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F0B-4400-41AA-BF4C-CB21E6BE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24F-24C7-4AE7-BF96-6D39A15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461-2FE2-46F4-90F3-C213EAA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956-F16F-465C-B46A-1E3D438E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E41-3D20-4A3B-9BB1-90EEC52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81A5-E1AE-42A5-B850-328BFDCE0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67640" y="2133720"/>
            <a:ext cx="129528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2205000"/>
            <a:ext cx="1371600" cy="221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3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" y="-9144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3213000"/>
            <a:ext cx="2808360" cy="1486080"/>
          </a:xfrm>
          <a:prstGeom prst="wedgeEllipseCallout">
            <a:avLst>
              <a:gd name="adj1" fmla="val -73291"/>
              <a:gd name="adj2" fmla="val -8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l âge 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2013120" cy="145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461360" y="2133720"/>
            <a:ext cx="1682640" cy="172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189000"/>
            <a:ext cx="2438640" cy="974520"/>
          </a:xfrm>
          <a:prstGeom prst="wedgeEllipseCallout">
            <a:avLst>
              <a:gd name="adj1" fmla="val -36199"/>
              <a:gd name="adj2" fmla="val 16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189000"/>
            <a:ext cx="2664000" cy="1439640"/>
          </a:xfrm>
          <a:prstGeom prst="wedgeEllipseCallout">
            <a:avLst>
              <a:gd name="adj1" fmla="val 40282"/>
              <a:gd name="adj2" fmla="val 61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ne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4581360"/>
            <a:ext cx="2736720" cy="1468440"/>
          </a:xfrm>
          <a:prstGeom prst="wedgeEllipseCallout">
            <a:avLst>
              <a:gd name="adj1" fmla="val -56958"/>
              <a:gd name="adj2" fmla="val -110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bient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5084640"/>
            <a:ext cx="2449440" cy="1152720"/>
          </a:xfrm>
          <a:prstGeom prst="wedgeEllipseCallout">
            <a:avLst>
              <a:gd name="adj1" fmla="val 67046"/>
              <a:gd name="adj2" fmla="val -130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 r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7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7800" y="12420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189000"/>
            <a:ext cx="2519640" cy="974520"/>
          </a:xfrm>
          <a:prstGeom prst="wedgeEllipseCallout">
            <a:avLst>
              <a:gd name="adj1" fmla="val -37083"/>
              <a:gd name="adj2" fmla="val 1765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89000"/>
            <a:ext cx="2664000" cy="1439640"/>
          </a:xfrm>
          <a:prstGeom prst="wedgeEllipseCallout">
            <a:avLst>
              <a:gd name="adj1" fmla="val 40282"/>
              <a:gd name="adj2" fmla="val 61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373720"/>
            <a:ext cx="2374920" cy="1152360"/>
          </a:xfrm>
          <a:prstGeom prst="wedgeEllipseCallout">
            <a:avLst>
              <a:gd name="adj1" fmla="val -23662"/>
              <a:gd name="adj2" fmla="val -196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 r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907920"/>
            <a:ext cx="2952720" cy="974880"/>
          </a:xfrm>
          <a:prstGeom prst="wedgeEllipseCallout">
            <a:avLst>
              <a:gd name="adj1" fmla="val -48601"/>
              <a:gd name="adj2" fmla="val 1228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t’appelles-t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1268280"/>
            <a:ext cx="2663640" cy="1440000"/>
          </a:xfrm>
          <a:prstGeom prst="wedgeEllipseCallout">
            <a:avLst>
              <a:gd name="adj1" fmla="val 70615"/>
              <a:gd name="adj2" fmla="val 27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m’app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1773360"/>
            <a:ext cx="2808360" cy="1485720"/>
          </a:xfrm>
          <a:prstGeom prst="wedgeEllipseCallout">
            <a:avLst>
              <a:gd name="adj1" fmla="val -73291"/>
              <a:gd name="adj2" fmla="val -8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 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565360"/>
            <a:ext cx="2954160" cy="1079640"/>
          </a:xfrm>
          <a:prstGeom prst="wedgeEllipseCallout">
            <a:avLst>
              <a:gd name="adj1" fmla="val 64134"/>
              <a:gd name="adj2" fmla="val 9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Ça va m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565360"/>
            <a:ext cx="2954160" cy="1079640"/>
          </a:xfrm>
          <a:prstGeom prst="wedgeEllipseCallout">
            <a:avLst>
              <a:gd name="adj1" fmla="val 64134"/>
              <a:gd name="adj2" fmla="val 9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Ça va bien m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565360"/>
            <a:ext cx="2954160" cy="1079640"/>
          </a:xfrm>
          <a:prstGeom prst="wedgeEllipseCallout">
            <a:avLst>
              <a:gd name="adj1" fmla="val 64134"/>
              <a:gd name="adj2" fmla="val 9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e ci, comm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573360"/>
            <a:ext cx="2954520" cy="1468440"/>
          </a:xfrm>
          <a:prstGeom prst="wedgeEllipseCallout">
            <a:avLst>
              <a:gd name="adj1" fmla="val 57416"/>
              <a:gd name="adj2" fmla="val -57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ai ____ 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060640"/>
            <a:ext cx="1371600" cy="221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189000"/>
            <a:ext cx="2438280" cy="1257120"/>
          </a:xfrm>
          <a:prstGeom prst="wedgeEllipseCallout">
            <a:avLst>
              <a:gd name="adj1" fmla="val -68828"/>
              <a:gd name="adj2" fmla="val 117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268280"/>
            <a:ext cx="2971800" cy="1486080"/>
          </a:xfrm>
          <a:prstGeom prst="wedgeEllipseCallout">
            <a:avLst>
              <a:gd name="adj1" fmla="val -57180"/>
              <a:gd name="adj2" fmla="val 46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2637000"/>
            <a:ext cx="2438280" cy="1485720"/>
          </a:xfrm>
          <a:prstGeom prst="wedgeEllipseCallout">
            <a:avLst>
              <a:gd name="adj1" fmla="val -62944"/>
              <a:gd name="adj2" fmla="val -45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9000"/>
            <a:ext cx="2438640" cy="1257120"/>
          </a:xfrm>
          <a:prstGeom prst="wedgeEllipseCallout">
            <a:avLst>
              <a:gd name="adj1" fmla="val 44592"/>
              <a:gd name="adj2" fmla="val 110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1268280"/>
            <a:ext cx="2971800" cy="1486080"/>
          </a:xfrm>
          <a:prstGeom prst="wedgeEllipseCallout">
            <a:avLst>
              <a:gd name="adj1" fmla="val 65898"/>
              <a:gd name="adj2" fmla="val 58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2492280"/>
            <a:ext cx="2819520" cy="1828800"/>
          </a:xfrm>
          <a:prstGeom prst="wedgeEllipseCallout">
            <a:avLst>
              <a:gd name="adj1" fmla="val 61037"/>
              <a:gd name="adj2" fmla="val -19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4149720"/>
            <a:ext cx="2819520" cy="1600200"/>
          </a:xfrm>
          <a:prstGeom prst="wedgeEllipseCallout">
            <a:avLst>
              <a:gd name="adj1" fmla="val -54888"/>
              <a:gd name="adj2" fmla="val -69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4076640"/>
            <a:ext cx="2819160" cy="1828800"/>
          </a:xfrm>
          <a:prstGeom prst="wedgeEllipseCallout">
            <a:avLst>
              <a:gd name="adj1" fmla="val 62231"/>
              <a:gd name="adj2" fmla="val -883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1989000"/>
            <a:ext cx="129528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-13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00" y="-9144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229360"/>
            <a:ext cx="2971800" cy="1485720"/>
          </a:xfrm>
          <a:prstGeom prst="wedgeEllipseCallout">
            <a:avLst>
              <a:gd name="adj1" fmla="val -48717"/>
              <a:gd name="adj2" fmla="val -118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5029200"/>
            <a:ext cx="2819520" cy="1828800"/>
          </a:xfrm>
          <a:prstGeom prst="wedgeEllipseCallout">
            <a:avLst>
              <a:gd name="adj1" fmla="val 56476"/>
              <a:gd name="adj2" fmla="val -97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549360"/>
            <a:ext cx="2438640" cy="974520"/>
          </a:xfrm>
          <a:prstGeom prst="wedgeEllipseCallout">
            <a:avLst>
              <a:gd name="adj1" fmla="val -68814"/>
              <a:gd name="adj2" fmla="val 136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133720"/>
            <a:ext cx="129528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205000"/>
            <a:ext cx="1371600" cy="221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1341360"/>
            <a:ext cx="2952720" cy="974880"/>
          </a:xfrm>
          <a:prstGeom prst="wedgeEllipseCallout">
            <a:avLst>
              <a:gd name="adj1" fmla="val -62740"/>
              <a:gd name="adj2" fmla="val 56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t’appelles-t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4365720"/>
            <a:ext cx="2806560" cy="1511280"/>
          </a:xfrm>
          <a:prstGeom prst="wedgeEllipseCallout">
            <a:avLst>
              <a:gd name="adj1" fmla="val 86087"/>
              <a:gd name="adj2" fmla="val -8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ai ____ 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3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0" y="-9144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357720"/>
            <a:ext cx="2592720" cy="1196640"/>
          </a:xfrm>
          <a:prstGeom prst="wedgeEllipseCallout">
            <a:avLst>
              <a:gd name="adj1" fmla="val -75231"/>
              <a:gd name="adj2" fmla="val -229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l âge 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2013120" cy="1454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461360" y="2133720"/>
            <a:ext cx="1682640" cy="172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3280" y="189000"/>
            <a:ext cx="2664000" cy="1439640"/>
          </a:xfrm>
          <a:prstGeom prst="wedgeEllipseCallout">
            <a:avLst>
              <a:gd name="adj1" fmla="val 58578"/>
              <a:gd name="adj2" fmla="val 106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653000"/>
            <a:ext cx="2303640" cy="1109520"/>
          </a:xfrm>
          <a:prstGeom prst="wedgeEllipseCallout">
            <a:avLst>
              <a:gd name="adj1" fmla="val -66125"/>
              <a:gd name="adj2" fmla="val -1654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bient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516640"/>
            <a:ext cx="2232000" cy="1065240"/>
          </a:xfrm>
          <a:prstGeom prst="wedgeEllipseCallout">
            <a:avLst>
              <a:gd name="adj1" fmla="val -46300"/>
              <a:gd name="adj2" fmla="val -221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 r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6000" y="7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7800" y="12420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3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333360"/>
            <a:ext cx="2519280" cy="974880"/>
          </a:xfrm>
          <a:prstGeom prst="wedgeEllipseCallout">
            <a:avLst>
              <a:gd name="adj1" fmla="val -34560"/>
              <a:gd name="adj2" fmla="val 163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260280"/>
            <a:ext cx="2664000" cy="1440000"/>
          </a:xfrm>
          <a:prstGeom prst="wedgeEllipseCallout">
            <a:avLst>
              <a:gd name="adj1" fmla="val 10129"/>
              <a:gd name="adj2" fmla="val 9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ne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5084640"/>
            <a:ext cx="2592360" cy="1224000"/>
          </a:xfrm>
          <a:prstGeom prst="wedgeEllipseCallout">
            <a:avLst>
              <a:gd name="adj1" fmla="val 31995"/>
              <a:gd name="adj2" fmla="val -2139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 r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2276640"/>
            <a:ext cx="2448000" cy="1198440"/>
          </a:xfrm>
          <a:prstGeom prst="wedgeEllipseCallout">
            <a:avLst>
              <a:gd name="adj1" fmla="val -76717"/>
              <a:gd name="adj2" fmla="val -22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 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1268280"/>
            <a:ext cx="2663640" cy="1440000"/>
          </a:xfrm>
          <a:prstGeom prst="wedgeEllipseCallout">
            <a:avLst>
              <a:gd name="adj1" fmla="val 70615"/>
              <a:gd name="adj2" fmla="val 27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m’app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349360"/>
            <a:ext cx="2954160" cy="1079640"/>
          </a:xfrm>
          <a:prstGeom prst="wedgeEllipseCallout">
            <a:avLst>
              <a:gd name="adj1" fmla="val 64134"/>
              <a:gd name="adj2" fmla="val 9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e ci, comm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3284640"/>
            <a:ext cx="2954520" cy="1079280"/>
          </a:xfrm>
          <a:prstGeom prst="wedgeEllipseCallout">
            <a:avLst>
              <a:gd name="adj1" fmla="val 69773"/>
              <a:gd name="adj2" fmla="val -7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Ça va bien m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3716280"/>
            <a:ext cx="2954520" cy="1079640"/>
          </a:xfrm>
          <a:prstGeom prst="wedgeEllipseCallout">
            <a:avLst>
              <a:gd name="adj1" fmla="val 25925"/>
              <a:gd name="adj2" fmla="val -9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Ça va 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9:22:26Z</dcterms:created>
  <dc:creator>Helen</dc:creator>
  <dc:description/>
  <dc:language>en-US</dc:language>
  <cp:lastModifiedBy>Helen</cp:lastModifiedBy>
  <dcterms:modified xsi:type="dcterms:W3CDTF">2009-07-07T20:24:20Z</dcterms:modified>
  <cp:revision>14</cp:revision>
  <dc:subject/>
  <dc:title>Slide 1</dc:title>
</cp:coreProperties>
</file>